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7A7-D82C-4BED-9C50-4BA0BB9F07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DFB0-AC0F-4996-B733-92755F954D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B57-1FC1-4C0D-B723-5468E0A6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A0C-F00C-443C-A100-394A636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C88-E945-4C90-BC51-F0E49F92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758-F88B-48C3-B987-EED1CDE3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0AE6-FB66-4223-9718-412A1DD0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6A8D-808E-4F3D-888F-02A9E876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88AF-20F8-4EDB-B5D0-8A71BDCD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90A8-C3D3-4837-9948-2D129DA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F45F-EC47-434E-9D16-A982D02F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BB6-134D-426B-BDBB-9FA6D9C2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48CC-EE03-452B-8E1C-72ADD610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530-6AA6-4B5B-A8AA-4F3E2D47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6DAF-E9FB-4EC9-B104-4250BAA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F5D7-C3CE-4331-965D-651A83E3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F598-11B2-4E30-A95A-79E0921D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937-D428-4FE3-85D4-D90A0DDF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5149-683C-45F2-8344-8370CC75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14E-243F-4428-8DCB-2EE096A4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D5E-49EF-46C1-A825-C8E426C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72A-0136-4F0B-917D-4A4117A1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A77-9632-4D07-8AB9-ACC5C025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532-8BF1-4469-84D6-0A04327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6E6-D98C-46B5-B39C-3212904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3A1-DF0E-4096-A671-BE51D81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890C-7B22-414D-801F-41DC2BE611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FCAB-A38D-4054-A5A8-239B196EB7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User</cp:lastModifiedBy>
  <dcterms:modified xsi:type="dcterms:W3CDTF">2018-11-22T10:03:28Z</dcterms:modified>
  <cp:revision>118</cp:revision>
  <dc:subject/>
  <dc:title>ДОРОЖНЫЕ ЗНАКИ</dc:title>
</cp:coreProperties>
</file>